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4760" y="0"/>
            <a:ext cx="297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A069E-B2B2-4EB0-905D-3142BA77B2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33CB8-58FA-407F-81E1-10CAF7112C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4110E-77BD-4CD7-8B38-B8581191EE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895F1-62D0-4526-8E11-155F9705DA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27A62-B35C-4D2A-8697-546F61474F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52748-2281-4D9A-9067-C57C862F97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C71A5-8D52-49EA-86DB-EA508752CE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143A9-9B07-4805-9A47-80E12412CA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93D18-8C05-40E0-978E-5275AB5736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298BE-5587-485E-A5C9-C8CDDB8EF2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88643-51CB-408A-867B-61B86C9CEB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B1937-E814-4FC7-8975-E6097194C5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744B3-C11E-4639-A4B5-E37B4A6163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B3A03-4922-4273-B34C-0B0DF51FF3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56F76-5B68-4981-9068-636BEBFE10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7EFFA-916E-450E-BB33-83C91158A6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E09C1-19AF-4220-B7AD-4F16FE9B89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DBCE2-49C4-467A-ACBF-F47FF220C7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4C185-66F0-4392-8652-F2462B7BF3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92695-16E6-4F00-816F-0B67C29E7D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F35FC-9C87-4344-817F-6D73C0580E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3FB2B-2A6A-475B-B23F-7E7BE03630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7E667-B3FF-4A54-B5BE-CDE72D697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D2AD0-38F5-4DB3-8827-6E38BD8654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E33AF-C97F-4A61-A89D-A6A2258120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CB768-855C-406F-940E-38BEA6A96E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C2AE2-A239-475E-B5B6-E2070ECB5B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5CEC5-4D6A-4F4A-B087-124F447BAA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283FD-A2A9-4BE6-BA15-591A2DD21D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359A2-FD40-4BE3-B805-0E3D8FA7D4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F9CC4-2F4B-43A0-9DC3-AB737500D4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2FC5D-26F8-406F-B68A-33CF7A6790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E6E51-B126-40CC-BD6D-3EDC5E55EE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0379-0B3F-4E82-A14F-6630842C5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C2F5-73D7-4B8F-BE67-A1BB55815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FFEC-5013-4240-B761-D7992894C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27BE-A331-4578-B39B-89F562718E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9854-AE06-49E7-B0AE-6895D319AF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0C04-810E-4C0C-9E2C-85FCE55BA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7CCE-8C8E-4911-BA20-00F7555ED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1E51-EB41-448E-AB9D-2467E6AA9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E16F-B101-40FD-A852-216501497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2C61-EABF-48F0-8553-FA2F70C5D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8063-B693-4389-88B8-26DEF23D3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D7C2-0097-4359-94B8-6A2793511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072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C4C93-534D-4354-A1D8-016CB5F9F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upload.wikimedia.org/wikipedia/commons/9/96/Nelder_Mead2.gif" TargetMode="External"/><Relationship Id="rId3" Type="http://schemas.openxmlformats.org/officeDocument/2006/relationships/hyperlink" Target="http://upload.wikimedia.org/wikipedia/commons/9/96/Nelder_Mead2.gi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79200" y="4565520"/>
            <a:ext cx="9324720" cy="2157480"/>
            <a:chOff x="-79200" y="4565520"/>
            <a:chExt cx="9324720" cy="215748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-79200" y="4565520"/>
              <a:ext cx="932472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-79200" y="4565520"/>
              <a:ext cx="9324720" cy="21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-2004840" y="1468440"/>
            <a:ext cx="12922200" cy="338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751800"/>
            <a:ext cx="9144000" cy="21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116000" y="907920"/>
            <a:ext cx="802800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réation de deux fonctio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nction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codant le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birth and death proc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nction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prob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éliminant les valeurs biologiquement aberrantes retournées par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nction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vrai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: cherche quelles valeurs de λ et 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armi celles calculées par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prob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permett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’estimer au mieux les temps observé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17427"/>
                </a:solidFill>
                <a:latin typeface="Calibri"/>
              </a:rPr>
              <a:t>prob(a, t1, t2,…, ta-1| l, m, T) = p1(T) x l(a-1) x Πp1(ti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ù a=nombre de taxa observés au temps pré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57520" cy="6553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73"/>
                </a:solidFill>
                <a:latin typeface="Calibri"/>
              </a:rPr>
              <a:t>Méthodologi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28620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16000" y="836640"/>
            <a:ext cx="78487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Définition d’une série de valeurs possibles pour λ et µ. Calcul des vraisemblances correspondantes grâce à </a:t>
            </a:r>
            <a:r>
              <a:rPr b="0" i="1" lang="fr-CH" sz="3000" spc="-1" strike="noStrike">
                <a:solidFill>
                  <a:srgbClr val="000000"/>
                </a:solidFill>
                <a:latin typeface="Calibri"/>
              </a:rPr>
              <a:t>vrais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. Intégration de ces valeurs de vraisemblance dans une matrice de stockage: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48000" y="2852640"/>
            <a:ext cx="3000240" cy="2786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5661000"/>
            <a:ext cx="7775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x → valeurs de vraisemblance propres aux combinaisons “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λ - µ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” testé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87280" y="907920"/>
            <a:ext cx="777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eprésentation graphique et estimation visuelle des valeurs de λ et µ les plus vraisemblabl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7056720" cy="4265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73"/>
                </a:solidFill>
                <a:latin typeface="Calibri"/>
              </a:rPr>
              <a:t>Méthodologi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87280" y="1125360"/>
            <a:ext cx="777744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lgorithme du simplex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animation simple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D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Calibri"/>
              </a:rPr>
              <a:t>a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“R” on intégre cet alogrithme dans une nouvelle fonction baptisée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optimum2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réation préalable de la fonction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vrais2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qui s’oppose à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vrai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et qui calcule deux valeurs correspondants à λ et µ  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vrais2&lt;-function(x){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return(-vrais(x[1],x[2],t,T))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1187280" y="1557360"/>
            <a:ext cx="777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nction finale permettant de calculer 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aleurs de λ et µ les plus vraisemblabl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70c0"/>
                </a:solidFill>
                <a:latin typeface="Calibri"/>
              </a:rPr>
              <a:t>optimum2&lt;-function(time,T,start) {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fr-FR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70c0"/>
                </a:solidFill>
                <a:latin typeface="Calibri"/>
              </a:rPr>
              <a:t>vrais2&lt;-function(x){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fr-FR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70c0"/>
                </a:solidFill>
                <a:latin typeface="Calibri"/>
              </a:rPr>
              <a:t>return(-vrais(x[1],x[2],time,T))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fr-FR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70c0"/>
                </a:solidFill>
                <a:latin typeface="Calibri"/>
              </a:rPr>
              <a:t>return(optim(start,vrais2,method="L-BFGS-B", lower=c(0,0)))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73"/>
                </a:solidFill>
                <a:latin typeface="Calibri"/>
              </a:rPr>
              <a:t>Méthodologi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87280" y="1197000"/>
            <a:ext cx="77774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60000"/>
                </a:solidFill>
                <a:latin typeface="Calibri"/>
              </a:rPr>
              <a:t>Les limites de la méthode utilisée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a fonction du maximum de vraisemblanc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05b2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17427"/>
                </a:solidFill>
                <a:latin typeface="Calibri"/>
              </a:rPr>
              <a:t>prob(a,t1,t2,…,ta-1|l,m,T) = p1(T) x l(a-1) x Πp1(ti)</a:t>
            </a:r>
            <a:r>
              <a:rPr b="0" lang="ar-SA" sz="2800" spc="-1" strike="noStrike">
                <a:solidFill>
                  <a:srgbClr val="f17427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otre modèle (vrais2 et optimum2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  →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aleurs de vraisemblanc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ssez préci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aleurs de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iaisées (surtout m) par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influence de T sur      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  le modè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87280" y="1052640"/>
            <a:ext cx="7777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eulement pour une valeur de T intermédiaire (=10 environ) → bonne estimation de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2492280"/>
            <a:ext cx="6913440" cy="3951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32000" y="1052640"/>
            <a:ext cx="7561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ur T petit →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ucune exctinction observées. Espèces “jeunes”; faible probabilité qu’elles disparaissent dans un petit intervalle 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2349360"/>
            <a:ext cx="37908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03640" y="3357720"/>
            <a:ext cx="3219480" cy="309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7280" y="1079640"/>
            <a:ext cx="7777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xemple: T= 0.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7442280" cy="4303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724280"/>
            <a:ext cx="7207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12000" y="2421000"/>
            <a:ext cx="7207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5589720"/>
            <a:ext cx="338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ximum de vraisembl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4932360" y="5229360"/>
            <a:ext cx="151128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516720" y="3141360"/>
            <a:ext cx="1440000" cy="2343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4140000" cy="3060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87280" y="1267920"/>
            <a:ext cx="767736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ur T grand →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= 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ntervalle de temps plus long → plus de probabilité qu’une espèce disparais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79640" y="1773360"/>
            <a:ext cx="6985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s principau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érêt et pertinence du travai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extualisation du projet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éthodologi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ésultats et discuss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pect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Plan de la présentation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87280" y="1052640"/>
            <a:ext cx="7500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xemple: T=3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7464240" cy="4246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490000">
            <a:off x="5508720" y="2852640"/>
            <a:ext cx="230328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651640" y="3284640"/>
            <a:ext cx="792000" cy="244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566100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CH" sz="1800" spc="-1" strike="noStrike">
                <a:solidFill>
                  <a:srgbClr val="ff0000"/>
                </a:solidFill>
                <a:latin typeface="Arial"/>
              </a:rPr>
              <a:t>Maximum de vraisemblance pour l=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773400">
            <a:off x="1673640" y="3663000"/>
            <a:ext cx="356544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634920" y="4076640"/>
            <a:ext cx="1871640" cy="165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58920" y="836640"/>
            <a:ext cx="7634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isualisation par les histogramm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6048360" cy="5448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565360"/>
            <a:ext cx="7129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Arial"/>
              </a:rPr>
              <a:t>Donc, le choix du T est fondament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Arial"/>
              </a:rPr>
              <a:t>lors des analyses phylogénétiqu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Arial"/>
              </a:rPr>
              <a:t>si nous voulons de bonnes estim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Arial"/>
              </a:rPr>
              <a:t>des paramètres recherché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87280" y="836640"/>
            <a:ext cx="7777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utre biais (étant donné un T intermédiaire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Nombre d'espèces au temps actuel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→ plus n est grand et plus l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stimations sont précis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4753080" cy="436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116000" y="907920"/>
            <a:ext cx="7848720" cy="57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n veut tester si le type de pollinisateurs chez les plantes des genres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Nematanthu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Codonanth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 un effet sur les valeurs de λ et µ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xtraction des valeurs de t à partir d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onnées phylogénétiques concernant l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genres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Codonanth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Nematanthu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fin de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uvoi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ppliquer la fonction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optimum2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réation de deux modèl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. un modèle général groupant toutes les plan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. un modèle séparant les plantes en fonction du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ollinisateu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2781360"/>
            <a:ext cx="355680" cy="212760"/>
          </a:xfrm>
          <a:prstGeom prst="rightArrow">
            <a:avLst>
              <a:gd name="adj1" fmla="val 50000"/>
              <a:gd name="adj2" fmla="val 522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73"/>
                </a:solidFill>
                <a:latin typeface="Calibri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4869000"/>
            <a:ext cx="355680" cy="212760"/>
          </a:xfrm>
          <a:prstGeom prst="rightArrow">
            <a:avLst>
              <a:gd name="adj1" fmla="val 50000"/>
              <a:gd name="adj2" fmla="val 522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87280" y="1484280"/>
            <a:ext cx="777744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. Modèle général regroupant toutes les pla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ndépendamment du pollinisateu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λ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(speciation) =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472580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μ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(extinction) =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0000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log (vraisemblance) = 78.7296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73"/>
                </a:solidFill>
                <a:latin typeface="Calibri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8920" y="2133720"/>
            <a:ext cx="381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22228b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22228b"/>
                </a:solidFill>
                <a:latin typeface="Calibri"/>
              </a:rPr>
              <a:t>Espèces pollinisées pa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22228b"/>
                </a:solidFill>
                <a:latin typeface="Calibri"/>
              </a:rPr>
              <a:t>des abeilles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λ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(speciation) =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472217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μ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(extinction) =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0000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log (vraisemblance) = 40.2572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060640"/>
            <a:ext cx="381636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Espèces pollinisées par des colib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λ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(speciation) =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486183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μ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(extinction) =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0000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log (vraisemblance) = 34.4233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258920" y="907920"/>
            <a:ext cx="7643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. Modèle séparant les plantes en fonction du pollinisateur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73"/>
                </a:solidFill>
                <a:latin typeface="Calibri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87280" y="1052640"/>
            <a:ext cx="7750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n fait un test du chi</a:t>
            </a:r>
            <a:r>
              <a:rPr b="0" lang="en-GB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pour comparer la vraisemblances de ces deux modèl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 : Les vraisemblances des deux modèles ne sont pas significativement différentes, et le type de pollinisateurs n’a donc pas d’effet sur les taux de spéciation et d’extinc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 : Les vraisemblances des deux modèles sont significativement différentes, le type de pollinisateurs a donc un effet sur les taux de spéciation et d’extinc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73"/>
                </a:solidFill>
                <a:latin typeface="Calibri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87280" y="836640"/>
            <a:ext cx="7777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aleurs de vraisemblance obtenues pour nos deux modèl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log(total) = 78.72969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 → H</a:t>
            </a:r>
            <a:r>
              <a:rPr b="0" lang="en-GB" sz="2600" spc="-1" strike="noStrike" baseline="-25000">
                <a:solidFill>
                  <a:srgbClr val="0070c0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log(abeilles) = 40.2572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log(colibris) = 34.4233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est du chi</a:t>
            </a:r>
            <a:r>
              <a:rPr b="0" lang="en-GB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Χ</a:t>
            </a:r>
            <a:r>
              <a:rPr b="0" lang="fr-CH" sz="2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= -2*( H</a:t>
            </a:r>
            <a:r>
              <a:rPr b="0" lang="en-GB" sz="2600" spc="-1" strike="noStrike" baseline="-25000">
                <a:solidFill>
                  <a:srgbClr val="0070c0"/>
                </a:solidFill>
                <a:latin typeface="Calibri"/>
              </a:rPr>
              <a:t>0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 – H</a:t>
            </a:r>
            <a:r>
              <a:rPr b="0" lang="en-GB" sz="2600" spc="-1" strike="noStrike" baseline="-25000">
                <a:solidFill>
                  <a:srgbClr val="0070c0"/>
                </a:solidFill>
                <a:latin typeface="Calibri"/>
              </a:rPr>
              <a:t>1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df = 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p-value = 0.860397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-value &gt; 5% → H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ne peut pas être rejetté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73"/>
                </a:solidFill>
                <a:latin typeface="Calibri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2565360"/>
            <a:ext cx="288720" cy="792360"/>
          </a:xfrm>
          <a:custGeom>
            <a:avLst/>
            <a:gdLst>
              <a:gd name="textAreaLeft" fmla="*/ 0 w 288720"/>
              <a:gd name="textAreaRight" fmla="*/ 104040 w 288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52160" y="2708280"/>
            <a:ext cx="856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→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H</a:t>
            </a:r>
            <a:r>
              <a:rPr b="0" lang="en-GB" sz="2600" spc="-1" strike="noStrike" baseline="-25000">
                <a:solidFill>
                  <a:srgbClr val="0070c0"/>
                </a:solidFill>
                <a:latin typeface="Calibri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981000"/>
            <a:ext cx="795672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biologiqu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éterminer si le type de pollinisateurs influence l’évolution des plantes appartenant au complexe d'espèce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odonanth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Nematanth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mathématiqu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tre en place un modèle permettant d’estimer, sur la base de données phylogénétiques, les taux d’extinction et de spéciation en utilisant la méthode du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aximum de vraisembl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Buts principaux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87280" y="981000"/>
            <a:ext cx="7777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limination du biais en enlevant T, l'équation devien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f17427"/>
                </a:solidFill>
                <a:latin typeface="Calibri"/>
              </a:rPr>
              <a:t>prob(t1,t2,…,ta-1|n,l,m,T) = Π [p1(ti)dti / ∫T0 p1(u)du]</a:t>
            </a:r>
            <a:r>
              <a:rPr b="0" lang="en-GB" sz="24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ette fonction nous ayant été donnée, nous avons pu établir la comparaison suivante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Fonction sans biai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λ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(speciation) =</a:t>
            </a: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4737472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→ Semblable à: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472580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μ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(extinction) = </a:t>
            </a: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0007526793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→ Mieux que: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0000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Persp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88508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nfin: nous avons un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ratio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λ/µ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élevé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26960" indent="0">
              <a:spcBef>
                <a:spcPts val="700"/>
              </a:spcBef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λ/µ =  0.4737472/0.0007526793 = 629.414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n principe, ce ratio est compris entre 2 et 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uses: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 type de pollinisateurs? → N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 séparations géographiques → création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e nouvelles niches écologiques 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 adaptation rapide à des nich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écologiques très spécialisées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Il reste encore beaucoup de pistes à investiguer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1403280" y="5516640"/>
            <a:ext cx="755640" cy="431640"/>
          </a:xfrm>
          <a:prstGeom prst="rightArrow">
            <a:avLst>
              <a:gd name="adj1" fmla="val 50000"/>
              <a:gd name="adj2" fmla="val 43766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637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Persp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2000" y="1700280"/>
            <a:ext cx="735624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spect biologiqu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ous avons constaté que le type de pollinisateurs n’influence pas les taux de spéciation et d’extinction dans le cas étudi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spect mathématiqu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ous avons mis en place un modèle et nous avons pu en percevoir les limi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32000" y="1844640"/>
            <a:ext cx="74404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ous tenons à remercier Nicolas Salamin pour la qualité de son encadrement, sa disponibilité et sa patience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GB" sz="3000" spc="-1" strike="noStrike">
                <a:solidFill>
                  <a:srgbClr val="f60000"/>
                </a:solidFill>
                <a:latin typeface="Calibri"/>
              </a:rPr>
              <a:t>Merci de votre atten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Remerci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39.92"/>
                                  </p:iterate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6" fill="hold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3" fill="hold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1" fill="hold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58920" y="1628640"/>
            <a:ext cx="756108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réhension de différents phénomènes évolutifs et des facteurs qui les influenc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tilisation et interprétation des données phylogénétiqu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illeure compréhension de l’origine de la biodiversit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Intérêts et pertinence du projet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58920" y="1052640"/>
            <a:ext cx="76341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Famille des Gesneriaceae (Eudicot, Asteridées)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Amérique Centrale et Amérique du Su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Diversité de pollinisateu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Genre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Codonant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(environ 20 esp.)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Genre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Nemantanthu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(environ 30 esp.)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940360" y="2637000"/>
            <a:ext cx="1643040" cy="200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Contextualisation du projet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692360" y="4653000"/>
            <a:ext cx="171432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55920" y="3244680"/>
            <a:ext cx="5211720" cy="3497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3000" y="857160"/>
            <a:ext cx="8001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ariables recherché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λ = taux de spéciation   μ = taux d’extinct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ariables connu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 = temps de diverg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 = temps de divergence de l’outgro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Contextualisation du projet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16000" y="1197000"/>
            <a:ext cx="78487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équençages de trois gènes communs à toutes les plantes d’intérê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Alignement de séquences par le programme MUSC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7686720" cy="2552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Contextualisation du projet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981000"/>
            <a:ext cx="8028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timation du nombre de substitutions par lignées et génération d’un arbre phylogénétique moléculai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51280" y="1989000"/>
            <a:ext cx="4295880" cy="2419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16000" y="4437000"/>
            <a:ext cx="802800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timation d’un taux de mutation propre à chaque espèce à l’aide d’un modèle d'autocorrélation de l'évolution des taux de mutations → arbre phylogénétique avec datation « relative 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Contextualisation du projet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16000" y="981000"/>
            <a:ext cx="7848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tilisation d’un fossile d’âge connu et assimilé à nos espèces d’intérêts comme référence temporelle → arbre phylogénétique avec datation « absolue 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tten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ces différentes étapes utilisent des modèles et comportent des approximations    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s résultats obtenus sont des estim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Contextualisation du projet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eller Linda</dc:creator>
  <dc:description/>
  <dc:language>en-US</dc:language>
  <cp:lastModifiedBy>Vincent</cp:lastModifiedBy>
  <dcterms:modified xsi:type="dcterms:W3CDTF">2009-05-28T11:04:37Z</dcterms:modified>
  <cp:revision>52</cp:revision>
  <dc:subject/>
  <dc:title>Estimating rate of speciation and extinction in a tropical plant </dc:title>
</cp:coreProperties>
</file>